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E4BB-228C-4395-AA7E-09DC50EF7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5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E3DE-BBF3-43FB-93DD-3B22D5E68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D2FF-C50A-4AD1-9553-C38173F8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480A-AC64-4D0F-AF1D-A1CC8D0FA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BDAF-6857-4CEB-AE0B-F60099188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797C-6D76-47F8-BC90-1C2DAE68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0DB7-84C0-4F0F-A01A-D7B63D54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80A9-6DA8-4D66-977D-F9CA80FF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F5A1-1E3C-4B06-BA48-ED0E4F8B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FCE6-A606-4C85-A7DB-46690F88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7CF5-76B5-4E37-9492-FCDCE7BB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1E6E-EC8E-4362-8BBB-0C883B23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89AC-03F3-49B5-9C11-F9FA2074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FF6D-7E80-4B52-AFA7-7C8B94496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5.xml"/><Relationship Id="rId4" Type="http://schemas.openxmlformats.org/officeDocument/2006/relationships/slide" Target=""/><Relationship Id="rId5" Type="http://schemas.openxmlformats.org/officeDocument/2006/relationships/slide" Target="slide7.xml"/><Relationship Id="rId6" Type="http://schemas.openxmlformats.org/officeDocument/2006/relationships/slide" Target=""/><Relationship Id="rId7" Type="http://schemas.openxmlformats.org/officeDocument/2006/relationships/slide" Target="slide9.xml"/><Relationship Id="rId8" Type="http://schemas.openxmlformats.org/officeDocument/2006/relationships/slide" Target=""/><Relationship Id="rId9" Type="http://schemas.openxmlformats.org/officeDocument/2006/relationships/slide" Target="slide11.xml"/><Relationship Id="rId10" Type="http://schemas.openxmlformats.org/officeDocument/2006/relationships/slide" Target=""/><Relationship Id="rId11" Type="http://schemas.openxmlformats.org/officeDocument/2006/relationships/slide" Target="slide13.xml"/><Relationship Id="rId12" Type="http://schemas.openxmlformats.org/officeDocument/2006/relationships/slide" Target="slide15.xml"/><Relationship Id="rId13" Type="http://schemas.openxmlformats.org/officeDocument/2006/relationships/slide" Target=""/><Relationship Id="rId14" Type="http://schemas.openxmlformats.org/officeDocument/2006/relationships/slide" Target="slide17.xml"/><Relationship Id="rId15" Type="http://schemas.openxmlformats.org/officeDocument/2006/relationships/slide" Target=""/><Relationship Id="rId16" Type="http://schemas.openxmlformats.org/officeDocument/2006/relationships/slide" Target="slide19.xml"/><Relationship Id="rId17" Type="http://schemas.openxmlformats.org/officeDocument/2006/relationships/slide" Target=""/><Relationship Id="rId18" Type="http://schemas.openxmlformats.org/officeDocument/2006/relationships/slide" Target="slide21.xml"/><Relationship Id="rId19" Type="http://schemas.openxmlformats.org/officeDocument/2006/relationships/slide" Target=""/><Relationship Id="rId20" Type="http://schemas.openxmlformats.org/officeDocument/2006/relationships/slide" Target="slide23.xml"/><Relationship Id="rId21" Type="http://schemas.openxmlformats.org/officeDocument/2006/relationships/slide" Target=""/><Relationship Id="rId22" Type="http://schemas.openxmlformats.org/officeDocument/2006/relationships/slide" Target="slide25.xml"/><Relationship Id="rId23" Type="http://schemas.openxmlformats.org/officeDocument/2006/relationships/slide" Target=""/><Relationship Id="rId24" Type="http://schemas.openxmlformats.org/officeDocument/2006/relationships/slide" Target="slide27.xml"/><Relationship Id="rId25" Type="http://schemas.openxmlformats.org/officeDocument/2006/relationships/slide" Target=""/><Relationship Id="rId26" Type="http://schemas.openxmlformats.org/officeDocument/2006/relationships/slide" Target="slide29.xml"/><Relationship Id="rId27" Type="http://schemas.openxmlformats.org/officeDocument/2006/relationships/slide" Target=""/><Relationship Id="rId28" Type="http://schemas.openxmlformats.org/officeDocument/2006/relationships/slide" Target="slide31.xml"/><Relationship Id="rId29" Type="http://schemas.openxmlformats.org/officeDocument/2006/relationships/slide" Target=""/><Relationship Id="rId30" Type="http://schemas.openxmlformats.org/officeDocument/2006/relationships/slide" Target="slide33.xml"/><Relationship Id="rId31" Type="http://schemas.openxmlformats.org/officeDocument/2006/relationships/slide" Target=""/><Relationship Id="rId32" Type="http://schemas.openxmlformats.org/officeDocument/2006/relationships/slide" Target="slide35.xml"/><Relationship Id="rId33" Type="http://schemas.openxmlformats.org/officeDocument/2006/relationships/slide" Target=""/><Relationship Id="rId34" Type="http://schemas.openxmlformats.org/officeDocument/2006/relationships/slide" Target="slide37.xml"/><Relationship Id="rId35" Type="http://schemas.openxmlformats.org/officeDocument/2006/relationships/slide" Target=""/><Relationship Id="rId36" Type="http://schemas.openxmlformats.org/officeDocument/2006/relationships/slide" Target="slide39.xml"/><Relationship Id="rId37" Type="http://schemas.openxmlformats.org/officeDocument/2006/relationships/slide" Target=""/><Relationship Id="rId38" Type="http://schemas.openxmlformats.org/officeDocument/2006/relationships/slide" Target="slide41.xml"/><Relationship Id="rId39" Type="http://schemas.openxmlformats.org/officeDocument/2006/relationships/slide" Target=""/><Relationship Id="rId40" Type="http://schemas.openxmlformats.org/officeDocument/2006/relationships/slide" Target="slide43.xml"/><Relationship Id="rId41" Type="http://schemas.openxmlformats.org/officeDocument/2006/relationships/slide" Target=""/><Relationship Id="rId42" Type="http://schemas.openxmlformats.org/officeDocument/2006/relationships/slide" Target="slide45.xml"/><Relationship Id="rId43" Type="http://schemas.openxmlformats.org/officeDocument/2006/relationships/slide" Target=""/><Relationship Id="rId44" Type="http://schemas.openxmlformats.org/officeDocument/2006/relationships/slide" Target="slide47.xml"/><Relationship Id="rId45" Type="http://schemas.openxmlformats.org/officeDocument/2006/relationships/slide" Target=""/><Relationship Id="rId46" Type="http://schemas.openxmlformats.org/officeDocument/2006/relationships/slide" Target="slide49.xml"/><Relationship Id="rId47" Type="http://schemas.openxmlformats.org/officeDocument/2006/relationships/slide" Target=""/><Relationship Id="rId48" Type="http://schemas.openxmlformats.org/officeDocument/2006/relationships/image" Target="../media/image1.jpeg"/><Relationship Id="rId49" Type="http://schemas.openxmlformats.org/officeDocument/2006/relationships/slide" Target=""/><Relationship Id="rId50" Type="http://schemas.openxmlformats.org/officeDocument/2006/relationships/slide" Target="slide51.xml"/><Relationship Id="rId5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"/>
              </a:rPr>
              <a:t>{Your Name}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Arial"/>
              </a:rPr>
              <a:t>Present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057400" y="3581280"/>
            <a:ext cx="4952880" cy="1600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20404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ank Gosh It's Frida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2" action="ppaction://hlinksldjump"/>
          </p:cNvPr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95280" y="210240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GIF stands for th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5452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20404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ank Gosh It's Frida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210240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GIF stands for th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5452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0404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ank Gosh It's Frida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210240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GIF stands for th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5452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20404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ank Gosh It's Frida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210240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GIF stands for th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5452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20404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ank Gosh It's Frida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210240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GIF stands for th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5452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rId2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4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5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6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7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8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9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0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16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18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20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26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28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30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3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33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3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35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36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37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38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39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40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41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4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43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4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45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46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47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33cc">
              <a:alpha val="81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ategory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33cc">
              <a:alpha val="81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ategory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33cc">
              <a:alpha val="81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ategory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33cc">
              <a:alpha val="81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ategory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33cc">
              <a:alpha val="81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ategory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149480"/>
            <a:ext cx="9144000" cy="0"/>
          </a:xfrm>
          <a:prstGeom prst="line">
            <a:avLst/>
          </a:prstGeom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15200" y="6095880"/>
            <a:ext cx="1752480" cy="68580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49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  <a:hlinkClick r:id="rId50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0404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ank Gosh It's Frida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210240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GIF stands for th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5452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20404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ank Gosh It's Frida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210240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GIF stands for th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5452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523880" y="3124080"/>
            <a:ext cx="6248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0404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ank Gosh It's Frida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210240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GIF stands for th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5452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0404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ank Gosh It's Frida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rId2" action="ppaction://hlinksldjump"/>
          </p:cNvPr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95280" y="210240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GIF stands for th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5452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20404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ank Gosh It's Frida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210240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GIF stands for th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15452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295280" y="210240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GIF stands for th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5452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0404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ank Gosh It's Frida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2" action="ppaction://hlinksldjump"/>
          </p:cNvPr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95280" y="210240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GIF stands for th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5452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5800" y="20404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ank Gosh It's Frida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95280" y="210240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GIF stands for th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15452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20404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ank Gosh It's Frida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2" action="ppaction://hlinksldjump"/>
          </p:cNvPr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95280" y="210240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GIF stands for th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5452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20404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ank Gosh It's Frida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2" action="ppaction://hlinksldjump"/>
          </p:cNvPr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210240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GIF stands for th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15452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20404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ank Gosh It's Frida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rId2" action="ppaction://hlinksldjump"/>
          </p:cNvPr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295280" y="210240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GIF stands for th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5452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20404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ank Gosh It's Frida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20404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ank Gosh It's Frida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rId2" action="ppaction://hlinksldjump"/>
          </p:cNvPr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95280" y="210240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GIF stands for th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15452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20404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ank Gosh It's Frida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rId2" action="ppaction://hlinksldjump"/>
          </p:cNvPr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295280" y="210240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GIF stands for th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15452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20404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ank Gosh It's Frida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2" action="ppaction://hlinksldjump"/>
          </p:cNvPr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210240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GIF stands for th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15452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20404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ank Gosh It's Frida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2" action="ppaction://hlinksldjump"/>
          </p:cNvPr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210240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GIF stands for th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15452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20404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ank Gosh It's Frida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rId2" action="ppaction://hlinksldjump"/>
          </p:cNvPr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95280" y="210240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GIF stands for th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15452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210240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GIF stands for th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5452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20404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ank Gosh It's Frida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rId2" action="ppaction://hlinksldjump"/>
          </p:cNvPr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95280" y="210240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GIF stands for th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15452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20404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ank Gosh It's Frida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rId2" action="ppaction://hlinksldjump"/>
          </p:cNvPr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20404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ank Gosh It's Frida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95280" y="210240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GIF stands for th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5452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0404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at is Thank Gosh It's Frida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66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lick Anywhere to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95280" y="2102400"/>
            <a:ext cx="632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TGIF stands for th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5452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Susan Collins/Eleanor Savko</dc:creator>
  <dc:description/>
  <dc:language>en-US</dc:language>
  <cp:lastModifiedBy>North Rockland Schools</cp:lastModifiedBy>
  <dcterms:modified xsi:type="dcterms:W3CDTF">2009-06-03T14:39:14Z</dcterms:modified>
  <cp:revision>51</cp:revision>
  <dc:subject>Jeopardy</dc:subject>
  <dc:title>Math 5A</dc:title>
</cp:coreProperties>
</file>